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wmf" ContentType="image/x-wmf"/>
  <Override PartName="/ppt/media/image11.png" ContentType="image/png"/>
  <Override PartName="/ppt/media/image16.wmf" ContentType="image/x-wmf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28.png" ContentType="image/png"/>
  <Override PartName="/ppt/media/image7.wmf" ContentType="image/x-wmf"/>
  <Override PartName="/ppt/media/image13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B419-248E-4B02-8B7C-F41050C7FBB3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6D05-35AF-409C-97DA-896F1355F9BF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86D1-2E7E-4653-A3C0-0A9D869DE9ED}" type="datetime">
              <a:rPr b="0" lang="es-ES_tradnl" sz="1400" spc="-1" strike="noStrike">
                <a:solidFill>
                  <a:srgbClr val="dde9ec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471-7D53-4F2D-99FA-06F211C6A5A1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92F0-FC71-4C78-A52F-534FD0853E06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8145-B264-4B2B-B89D-A1803DFEDCDF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932B-9CF4-41C1-8F01-81D908C36F3A}" type="datetime">
              <a:rPr b="0" lang="es-ES_tradnl" sz="1400" spc="-1" strike="noStrike">
                <a:solidFill>
                  <a:srgbClr val="dde9ec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58FC-BB8C-492C-BD6B-23B7EAAFE25D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7120" y="2852280"/>
            <a:ext cx="842976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Encuesta de estratificación social</a:t>
            </a:r>
            <a:br>
              <a:rPr sz="2500"/>
            </a:b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 Algunos resultados para el país</a:t>
            </a:r>
            <a:br>
              <a:rPr sz="2500"/>
            </a:b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y las regiones de Atacama y Coquimbo</a:t>
            </a:r>
            <a:r>
              <a:rPr b="1" lang="es-ES" sz="2500" spc="-1" strike="noStrike">
                <a:solidFill>
                  <a:srgbClr val="dde9ec"/>
                </a:solidFill>
                <a:latin typeface="Bookman Old Style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dde9ec"/>
              </a:solidFill>
              <a:latin typeface="Bookman Old Styl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714680" y="428760"/>
            <a:ext cx="5811480" cy="2124000"/>
          </a:xfrm>
          <a:prstGeom prst="rect">
            <a:avLst/>
          </a:prstGeom>
          <a:ln w="0">
            <a:noFill/>
          </a:ln>
        </p:spPr>
      </p:pic>
      <p:sp>
        <p:nvSpPr>
          <p:cNvPr id="323" name="1 Título"/>
          <p:cNvSpPr/>
          <p:nvPr/>
        </p:nvSpPr>
        <p:spPr>
          <a:xfrm>
            <a:off x="285840" y="4365720"/>
            <a:ext cx="8643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dde9ec"/>
                </a:solidFill>
                <a:latin typeface="Bookman Old Style"/>
              </a:rPr>
              <a:t>Seminarios </a:t>
            </a: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Macrozonales SUB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La Serena, 13 de noviembre d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Emmanuelle Barozet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Proyecto desigualdades/Departamento de Sociología, 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64653"/>
                </a:solidFill>
                <a:latin typeface="Bookman Old Style"/>
              </a:rPr>
              <a:t>El deseo de vivir en una determinada región…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60724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714240" y="1643040"/>
          <a:ext cx="7143840" cy="3970440"/>
        </p:xfrm>
        <a:graphic>
          <a:graphicData uri="http://schemas.openxmlformats.org/drawingml/2006/table">
            <a:tbl>
              <a:tblPr/>
              <a:tblGrid>
                <a:gridCol w="3149640"/>
                <a:gridCol w="1332000"/>
                <a:gridCol w="1332000"/>
                <a:gridCol w="1330200"/>
              </a:tblGrid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 Bold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cama (3ª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quimbo (4ª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 Bold"/>
                        </a:rPr>
                        <a:t>Total 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viría en esta reg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iría a vivir a otra región (no Santiag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iría a vivir a Santiago (Región Metropolitan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/N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64653"/>
                </a:solidFill>
                <a:latin typeface="Bookman Old Style"/>
              </a:rPr>
              <a:t>El deseo de vivir en una determinada región…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60724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9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1440" y="1125360"/>
            <a:ext cx="91425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l deseo de vivir en una determinada comun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640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9" descr=""/>
          <p:cNvPicPr/>
          <p:nvPr/>
        </p:nvPicPr>
        <p:blipFill>
          <a:blip r:embed="rId1"/>
          <a:srcRect l="0" t="0" r="0" b="50010"/>
          <a:stretch/>
        </p:blipFill>
        <p:spPr>
          <a:xfrm>
            <a:off x="0" y="1197000"/>
            <a:ext cx="91440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s oportunidades que brinda la reg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611520" y="6192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14240" y="1428840"/>
          <a:ext cx="7628040" cy="4622760"/>
        </p:xfrm>
        <a:graphic>
          <a:graphicData uri="http://schemas.openxmlformats.org/drawingml/2006/table">
            <a:tbl>
              <a:tblPr/>
              <a:tblGrid>
                <a:gridCol w="2986200"/>
                <a:gridCol w="1592280"/>
                <a:gridCol w="1684440"/>
                <a:gridCol w="1365120"/>
              </a:tblGrid>
              <a:tr h="97308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relación a las oportunidades para desarrollarse en esta región, Ud. diría que existen más, las mismas, o menos oportunidades que en el resto del 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acama (I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quimbo (I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esta región existen más oportunidades que en el resto del 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esta región existen las mismas oportunidades que en el resto del 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esta región existen menos oportunidades que en el resto del 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/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s oportunidades que brinda la reg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3611520" y="6192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"/>
          <p:cNvPicPr/>
          <p:nvPr/>
        </p:nvPicPr>
        <p:blipFill>
          <a:blip r:embed="rId1"/>
          <a:srcRect l="0" t="0" r="0" b="51992"/>
          <a:stretch/>
        </p:blipFill>
        <p:spPr>
          <a:xfrm>
            <a:off x="0" y="1484280"/>
            <a:ext cx="9144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85560" y="2786040"/>
            <a:ext cx="6791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dde9ec"/>
                </a:solidFill>
                <a:uFillTx/>
                <a:latin typeface="Bookman Old Style"/>
              </a:rPr>
              <a:t>2. TERRITORIO E INSTITUCIONALIDAD: EL EFECTO DEL TERRITORIO EN EL CONOCIMIENTO DEL FUNCIONAMIENTO DEL ESTADO Y EN LA CONFIANZA INSTITUCIONAL</a:t>
            </a:r>
            <a:br>
              <a:rPr sz="1800"/>
            </a:br>
            <a:endParaRPr b="0" lang="en-US" sz="1800" spc="-1" strike="noStrike">
              <a:solidFill>
                <a:srgbClr val="dde9ec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Evaluación del desempeño de las instituciones regionales y locales: ni bien ni mal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6900840" y="6408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3290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3"/>
          <p:cNvSpPr/>
          <p:nvPr/>
        </p:nvSpPr>
        <p:spPr>
          <a:xfrm>
            <a:off x="285840" y="5143680"/>
            <a:ext cx="4429080" cy="500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Gráfico 26" descr=""/>
          <p:cNvPicPr/>
          <p:nvPr/>
        </p:nvPicPr>
        <p:blipFill>
          <a:blip r:embed="rId1"/>
          <a:srcRect l="-2128" t="-3429" r="-1529" b="-4535"/>
          <a:stretch/>
        </p:blipFill>
        <p:spPr>
          <a:xfrm>
            <a:off x="1116000" y="1125360"/>
            <a:ext cx="5977080" cy="51120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3611520" y="594180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 en comparación con Santiag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6613560" y="6408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 en comparación con Santiag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1"/>
          <a:srcRect l="0" t="0" r="0" b="51992"/>
          <a:stretch/>
        </p:blipFill>
        <p:spPr>
          <a:xfrm>
            <a:off x="0" y="1125360"/>
            <a:ext cx="9144000" cy="52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285840" y="571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0" y="60008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omparación de confianza en instituciones (suma de opciones mucha/bastante/algo de confianza)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85880" y="1785960"/>
          <a:ext cx="7572240" cy="4071960"/>
        </p:xfrm>
        <a:graphic>
          <a:graphicData uri="http://schemas.openxmlformats.org/drawingml/2006/table">
            <a:tbl>
              <a:tblPr/>
              <a:tblGrid>
                <a:gridCol w="3717720"/>
                <a:gridCol w="1435320"/>
                <a:gridCol w="1436760"/>
                <a:gridCol w="982440"/>
              </a:tblGrid>
              <a:tr h="663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 Bold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cama (3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quimbo (4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 Bold"/>
                        </a:rPr>
                        <a:t>Total 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GOBIERNO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GOBIERNO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 Bold"/>
                        </a:rPr>
                        <a:t>LA GOBER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UNICIPI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ES SOCIALES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dde9ec"/>
                </a:solidFill>
                <a:uFillTx/>
                <a:latin typeface="Bookman Old Style"/>
              </a:rPr>
              <a:t>1. LA IDENTIFICACIÓN TERRITORIAL </a:t>
            </a:r>
            <a:br>
              <a:rPr sz="2900"/>
            </a:br>
            <a:endParaRPr b="0" lang="en-US" sz="2400" spc="-1" strike="noStrike">
              <a:solidFill>
                <a:srgbClr val="dde9ec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285840" y="571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419640" y="64533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omparación de confianza en institucion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3" name="Picture 8" descr=""/>
          <p:cNvPicPr/>
          <p:nvPr/>
        </p:nvPicPr>
        <p:blipFill>
          <a:blip r:embed="rId1"/>
          <a:stretch/>
        </p:blipFill>
        <p:spPr>
          <a:xfrm>
            <a:off x="455760" y="1019160"/>
            <a:ext cx="8508960" cy="52894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10"/>
          <p:cNvSpPr/>
          <p:nvPr/>
        </p:nvSpPr>
        <p:spPr>
          <a:xfrm>
            <a:off x="611280" y="5013360"/>
            <a:ext cx="597528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1"/>
          <p:cNvSpPr/>
          <p:nvPr/>
        </p:nvSpPr>
        <p:spPr>
          <a:xfrm>
            <a:off x="52196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285840" y="571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419640" y="64533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omparación de confianza en institucion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239760" y="958680"/>
            <a:ext cx="8724960" cy="542304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7"/>
          <p:cNvSpPr/>
          <p:nvPr/>
        </p:nvSpPr>
        <p:spPr>
          <a:xfrm>
            <a:off x="395280" y="5084640"/>
            <a:ext cx="51134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195640" y="1267920"/>
            <a:ext cx="40399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Los miembros del Consejo Regional eligen al/ a la Intendente/a” (falso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Gráfico 40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5930640" cy="3573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3000240" y="5799600"/>
            <a:ext cx="314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ota: sólo se indican los porcentajes de las respuestas exactas y NS/N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12 Marcador de contenido"/>
          <p:cNvSpPr/>
          <p:nvPr/>
        </p:nvSpPr>
        <p:spPr>
          <a:xfrm>
            <a:off x="500040" y="142920"/>
            <a:ext cx="8358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ill Sans MT"/>
              </a:rPr>
              <a:t>Conocimiento del funcionamiento de las instituciones: una deuda del civis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484000" y="1483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Los Concejales municipales eligen a los miembros del Consejo Regional” (verdader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3000240" y="5728320"/>
            <a:ext cx="314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ota: sólo se indican los porcentajes de las respuestas exactas y NS/N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Gráfico 38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931000" cy="33861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2 Marcador de contenido"/>
          <p:cNvSpPr/>
          <p:nvPr/>
        </p:nvSpPr>
        <p:spPr>
          <a:xfrm>
            <a:off x="500040" y="142920"/>
            <a:ext cx="8358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ill Sans MT"/>
              </a:rPr>
              <a:t>Conocimiento del funcionamiento de las instituciones: una deuda del civis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Respuesta correcta por regió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6804360" y="630792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1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0" y="1268280"/>
            <a:ext cx="91425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Respuesta correcta por regió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6804360" y="630792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1440" y="1125360"/>
            <a:ext cx="91425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64653"/>
                </a:solidFill>
                <a:latin typeface="Bookman Old Style"/>
              </a:rPr>
              <a:t>La participación en asociaciones como forma activa de cultura cívic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262908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9" descr=""/>
          <p:cNvPicPr/>
          <p:nvPr/>
        </p:nvPicPr>
        <p:blipFill>
          <a:blip r:embed="rId1"/>
          <a:srcRect l="0" t="0" r="2618" b="47370"/>
          <a:stretch/>
        </p:blipFill>
        <p:spPr>
          <a:xfrm>
            <a:off x="0" y="1197000"/>
            <a:ext cx="91440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dde9ec"/>
                </a:solidFill>
                <a:uFillTx/>
                <a:latin typeface="Bookman Old Style"/>
              </a:rPr>
              <a:t>3. Educación y Capital Humano</a:t>
            </a:r>
            <a:br>
              <a:rPr sz="2900"/>
            </a:br>
            <a:endParaRPr b="0" lang="en-US" sz="2000" spc="-1" strike="noStrike">
              <a:solidFill>
                <a:srgbClr val="dde9ec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64653"/>
                </a:solidFill>
                <a:latin typeface="Bookman Old Style"/>
              </a:rPr>
              <a:t>Capital educacional de los habitantes de las 15 regiones del país: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Gráfico 3" descr=""/>
          <p:cNvPicPr/>
          <p:nvPr/>
        </p:nvPicPr>
        <p:blipFill>
          <a:blip r:embed="rId1"/>
          <a:srcRect l="0" t="0" r="0" b="-51"/>
          <a:stretch/>
        </p:blipFill>
        <p:spPr>
          <a:xfrm>
            <a:off x="642960" y="1357200"/>
            <a:ext cx="7500960" cy="41864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>
            <a:off x="0" y="6072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7"/>
          <p:cNvSpPr/>
          <p:nvPr/>
        </p:nvSpPr>
        <p:spPr>
          <a:xfrm>
            <a:off x="1857240" y="1214280"/>
            <a:ext cx="571680" cy="444672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446720"/>
              <a:gd name="textAreaBottom" fmla="*/ 4419000 h 4446720"/>
            </a:gdLst>
            <a:ahLst/>
            <a:rect l="textAreaLeft" t="textAreaTop" r="textAreaRight" b="textAreaBottom"/>
            <a:pathLst>
              <a:path w="21600" h="167920">
                <a:moveTo>
                  <a:pt x="3600" y="0"/>
                </a:moveTo>
                <a:arcTo wR="3600" hR="3600" stAng="16200000" swAng="-5400000"/>
                <a:lnTo>
                  <a:pt x="0" y="164320"/>
                </a:lnTo>
                <a:arcTo wR="3600" hR="3600" stAng="10800000" swAng="-5400000"/>
                <a:lnTo>
                  <a:pt x="18000" y="1679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n cuanto a la educación terciari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395280" y="1487520"/>
            <a:ext cx="8209080" cy="26622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1338840" y="5444280"/>
            <a:ext cx="646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Mario Pezzini, Carlos Icaza Lara, National Territorial Review of Chile Julio, 2009, Santiago de Chile, p.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336920" y="5877000"/>
          <a:ext cx="7220160" cy="771480"/>
        </p:xfrm>
        <a:graphic>
          <a:graphicData uri="http://schemas.openxmlformats.org/drawingml/2006/table">
            <a:tbl>
              <a:tblPr/>
              <a:tblGrid>
                <a:gridCol w="3716640"/>
                <a:gridCol w="35035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1" descr=""/>
          <p:cNvPicPr/>
          <p:nvPr/>
        </p:nvPicPr>
        <p:blipFill>
          <a:blip r:embed="rId1"/>
          <a:srcRect l="0" t="0" r="0" b="52647"/>
          <a:stretch/>
        </p:blipFill>
        <p:spPr>
          <a:xfrm>
            <a:off x="539640" y="1268280"/>
            <a:ext cx="837108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n cuanto a la educación terciari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6500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2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1440" y="765000"/>
            <a:ext cx="9142560" cy="56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n cuanto a la educación terciari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6500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1"/>
          <a:stretch/>
        </p:blipFill>
        <p:spPr>
          <a:xfrm>
            <a:off x="-49320" y="708120"/>
            <a:ext cx="9242640" cy="57452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11"/>
          <p:cNvSpPr/>
          <p:nvPr/>
        </p:nvSpPr>
        <p:spPr>
          <a:xfrm>
            <a:off x="0" y="5084640"/>
            <a:ext cx="6337440" cy="64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ción de postgrado por reg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6904440" y="645264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9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0" y="907920"/>
            <a:ext cx="914256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Lugar del establecimiento de formación terciaria, por regió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Gráfico 8" descr=""/>
          <p:cNvPicPr/>
          <p:nvPr/>
        </p:nvPicPr>
        <p:blipFill>
          <a:blip r:embed="rId1"/>
          <a:srcRect l="0" t="0" r="0" b="-80"/>
          <a:stretch/>
        </p:blipFill>
        <p:spPr>
          <a:xfrm>
            <a:off x="1428840" y="4071960"/>
            <a:ext cx="6286320" cy="21477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"/>
          <p:cNvSpPr/>
          <p:nvPr/>
        </p:nvSpPr>
        <p:spPr>
          <a:xfrm>
            <a:off x="3613680" y="623484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áfico 51" descr=""/>
          <p:cNvPicPr/>
          <p:nvPr/>
        </p:nvPicPr>
        <p:blipFill>
          <a:blip r:embed="rId2"/>
          <a:srcRect l="-10098" t="-5171" r="-668" b="-57604"/>
          <a:stretch/>
        </p:blipFill>
        <p:spPr>
          <a:xfrm>
            <a:off x="2214720" y="1428840"/>
            <a:ext cx="4357440" cy="3143160"/>
          </a:xfrm>
          <a:prstGeom prst="rect">
            <a:avLst/>
          </a:prstGeom>
          <a:ln w="0">
            <a:noFill/>
          </a:ln>
        </p:spPr>
      </p:pic>
      <p:sp>
        <p:nvSpPr>
          <p:cNvPr id="455" name="AutoShape 7"/>
          <p:cNvSpPr/>
          <p:nvPr/>
        </p:nvSpPr>
        <p:spPr>
          <a:xfrm>
            <a:off x="2571840" y="4143240"/>
            <a:ext cx="500040" cy="200052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2000520"/>
              <a:gd name="textAreaBottom" fmla="*/ 1976400 h 2000520"/>
            </a:gdLst>
            <a:ahLst/>
            <a:rect l="textAreaLeft" t="textAreaTop" r="textAreaRight" b="textAreaBottom"/>
            <a:pathLst>
              <a:path w="21600" h="86369">
                <a:moveTo>
                  <a:pt x="3600" y="0"/>
                </a:moveTo>
                <a:arcTo wR="3600" hR="3600" stAng="16200000" swAng="-5400000"/>
                <a:lnTo>
                  <a:pt x="0" y="82769"/>
                </a:lnTo>
                <a:arcTo wR="3600" hR="3600" stAng="10800000" swAng="-5400000"/>
                <a:lnTo>
                  <a:pt x="18000" y="86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3 Marcador de número de diapositiva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BFA5-5FC1-4ADA-BA23-8F9290BD8A16}" type="slidenum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19320" y="2971800"/>
            <a:ext cx="68580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(4. Temas valóricos)</a:t>
            </a:r>
            <a:br>
              <a:rPr sz="2600"/>
            </a:br>
            <a:endParaRPr b="0" lang="en-US" sz="1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64653"/>
                </a:solidFill>
                <a:latin typeface="Bookman Old Style"/>
              </a:rPr>
              <a:t>Igualdad de la mujer</a:t>
            </a:r>
            <a:endParaRPr b="0" lang="en-US" sz="3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6072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8" descr=""/>
          <p:cNvPicPr/>
          <p:nvPr/>
        </p:nvPicPr>
        <p:blipFill>
          <a:blip r:embed="rId1"/>
          <a:srcRect l="0" t="0" r="0" b="51335"/>
          <a:stretch/>
        </p:blipFill>
        <p:spPr>
          <a:xfrm>
            <a:off x="0" y="836640"/>
            <a:ext cx="91440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64653"/>
                </a:solidFill>
                <a:latin typeface="Bookman Old Style"/>
              </a:rPr>
              <a:t>Igualdad de la mujer</a:t>
            </a:r>
            <a:endParaRPr b="0" lang="en-US" sz="3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6072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8" descr=""/>
          <p:cNvPicPr/>
          <p:nvPr/>
        </p:nvPicPr>
        <p:blipFill>
          <a:blip r:embed="rId1"/>
          <a:srcRect l="0" t="0" r="0" b="50664"/>
          <a:stretch/>
        </p:blipFill>
        <p:spPr>
          <a:xfrm>
            <a:off x="0" y="836640"/>
            <a:ext cx="91440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Tolerancia a la desigualdad social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0" y="6351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1"/>
          <a:srcRect l="0" t="0" r="0" b="49352"/>
          <a:stretch/>
        </p:blipFill>
        <p:spPr>
          <a:xfrm>
            <a:off x="357120" y="1214280"/>
            <a:ext cx="8470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Tolerancia a la desigualdad social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0" y="6351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8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1440" y="981000"/>
            <a:ext cx="9142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Tolerancia a la desigualdad social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0" y="6351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7" descr=""/>
          <p:cNvPicPr/>
          <p:nvPr/>
        </p:nvPicPr>
        <p:blipFill>
          <a:blip r:embed="rId1"/>
          <a:srcRect l="0" t="0" r="1117" b="46702"/>
          <a:stretch/>
        </p:blipFill>
        <p:spPr>
          <a:xfrm>
            <a:off x="0" y="1052640"/>
            <a:ext cx="91440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336920" y="5877000"/>
          <a:ext cx="7220160" cy="771480"/>
        </p:xfrm>
        <a:graphic>
          <a:graphicData uri="http://schemas.openxmlformats.org/drawingml/2006/table">
            <a:tbl>
              <a:tblPr/>
              <a:tblGrid>
                <a:gridCol w="3716640"/>
                <a:gridCol w="35035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2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0" y="62064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Uniones del mismo sexo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7" descr=""/>
          <p:cNvPicPr/>
          <p:nvPr/>
        </p:nvPicPr>
        <p:blipFill>
          <a:blip r:embed="rId1"/>
          <a:srcRect l="0" t="0" r="0" b="48682"/>
          <a:stretch/>
        </p:blipFill>
        <p:spPr>
          <a:xfrm>
            <a:off x="0" y="981000"/>
            <a:ext cx="914256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Meritocracia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7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1440" y="1125360"/>
            <a:ext cx="91425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64653"/>
                </a:solidFill>
                <a:latin typeface="Bookman Old Style"/>
              </a:rPr>
              <a:t>Meritocracia</a:t>
            </a:r>
            <a:endParaRPr b="0" lang="en-US" sz="3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1440" y="765000"/>
            <a:ext cx="9142560" cy="56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Derechos laborales: sindicalización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7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0" y="907920"/>
            <a:ext cx="914256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64653"/>
                </a:solidFill>
                <a:latin typeface="Bookman Old Style"/>
              </a:rPr>
              <a:t>Medio ambiente</a:t>
            </a:r>
            <a:endParaRPr b="0" lang="en-US" sz="3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7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0" y="836640"/>
            <a:ext cx="91519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14200" y="1214280"/>
            <a:ext cx="85154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La evidencia levantada mediante este estudio sugiere que la territorialidad es una importante fuente de diferenciación social y de reproducción de la desigualdad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Este análisis preliminar por región muestra en qué se asemejan y diferencian las regiones de Atacama y Coquimbo respecto del resto de las regiones y promedios nacionales.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Coquimbo se destaca por altos niveles de identificación territorial, alto deseo de permanecer en la región, pero con una percepción de menores oportunidades que el resto del país y baja disponibilidad de técnicos y capital humano avanzado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Atacama se destaca por su parte por bajos niveles de identificación territorial y deseo, si no mayoritario, por lo menos alto de vivir en otra región. Sin embargo, se percibe que la región da oportunidades mejores o iguales que el resto del país. El desempeño de las instituciones es más bajo que en otras regiones, a pesar de una confianza relativamente alta en las instituciones locales y regionales.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6920" y="5300280"/>
            <a:ext cx="678204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481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336920" y="5877000"/>
          <a:ext cx="7220160" cy="771480"/>
        </p:xfrm>
        <a:graphic>
          <a:graphicData uri="http://schemas.openxmlformats.org/drawingml/2006/table">
            <a:tbl>
              <a:tblPr/>
              <a:tblGrid>
                <a:gridCol w="3716640"/>
                <a:gridCol w="35035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1"/>
          <a:srcRect l="0" t="0" r="1048" b="47370"/>
          <a:stretch/>
        </p:blipFill>
        <p:spPr>
          <a:xfrm>
            <a:off x="0" y="620640"/>
            <a:ext cx="914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427640" y="5950080"/>
          <a:ext cx="7219800" cy="771480"/>
        </p:xfrm>
        <a:graphic>
          <a:graphicData uri="http://schemas.openxmlformats.org/drawingml/2006/table">
            <a:tbl>
              <a:tblPr/>
              <a:tblGrid>
                <a:gridCol w="3716280"/>
                <a:gridCol w="35035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8" descr=""/>
          <p:cNvPicPr/>
          <p:nvPr/>
        </p:nvPicPr>
        <p:blipFill>
          <a:blip r:embed="rId1"/>
          <a:srcRect l="0" t="0" r="1048" b="47125"/>
          <a:stretch/>
        </p:blipFill>
        <p:spPr>
          <a:xfrm>
            <a:off x="0" y="62064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42920" y="5516640"/>
          <a:ext cx="7220160" cy="771480"/>
        </p:xfrm>
        <a:graphic>
          <a:graphicData uri="http://schemas.openxmlformats.org/drawingml/2006/table">
            <a:tbl>
              <a:tblPr/>
              <a:tblGrid>
                <a:gridCol w="3716280"/>
                <a:gridCol w="350388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8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0" y="907920"/>
            <a:ext cx="915192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1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64653"/>
                </a:solidFill>
                <a:latin typeface="Bookman Old Style"/>
              </a:rPr>
              <a:t>Resumen niveles de identificación</a:t>
            </a:r>
            <a:br>
              <a:rPr sz="2800"/>
            </a:br>
            <a:r>
              <a:rPr b="0" lang="es-ES" sz="1400" spc="-1" strike="noStrike">
                <a:solidFill>
                  <a:srgbClr val="464653"/>
                </a:solidFill>
                <a:latin typeface="Bookman Old Style"/>
              </a:rPr>
              <a:t>Fuente: Proyecto Desigualdad</a:t>
            </a:r>
            <a:br>
              <a:rPr sz="2800"/>
            </a:br>
            <a:endParaRPr b="0" lang="en-US" sz="14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395280" y="1112760"/>
            <a:ext cx="9242280" cy="574524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395280" y="5084640"/>
            <a:ext cx="5904000" cy="64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El deseo de vivir en una determinada región (resultados nacionales)…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Gráfico 7" descr=""/>
          <p:cNvPicPr/>
          <p:nvPr/>
        </p:nvPicPr>
        <p:blipFill>
          <a:blip r:embed="rId1"/>
          <a:srcRect l="-20860" t="-4223" r="-21225" b="-28392"/>
          <a:stretch/>
        </p:blipFill>
        <p:spPr>
          <a:xfrm>
            <a:off x="1258920" y="1341360"/>
            <a:ext cx="6697800" cy="43927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0" y="60724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19:30Z</dcterms:created>
  <dc:creator>E. Barozet</dc:creator>
  <dc:description/>
  <dc:language>en-US</dc:language>
  <cp:lastModifiedBy>lortiz</cp:lastModifiedBy>
  <dcterms:modified xsi:type="dcterms:W3CDTF">2009-11-23T20:19:22Z</dcterms:modified>
  <cp:revision>111</cp:revision>
  <dc:subject/>
  <dc:title>La adscripción territorial de los chilenos y las chilenas:  Una mirada desde la estructura de oportunidades  Seminario Nuevas tendencias de la (des)igualdad social: Desafíos para Chile y América Latina  09/09/2009</dc:title>
</cp:coreProperties>
</file>